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60DC-C3C2-4AB9-AC40-DF27D587C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C5E8-51CC-4F42-8975-D1118059C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ciencedaily.com/releases/2009/10/09101413070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7109-CE3D-4457-9B2C-911455E49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.nicerweb.com/Locked/media/ch20/electrophoresi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8423-8729-4BE6-9D74-C783F5C15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AFEA-FF30-4F2E-82A3-B5ADA24AF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AMY1 gene sequence: http://en.wikipedia.org/wiki/File:AMY1gene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ylase gene…one of the most variable in hu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5D95-40AF-4891-A3FF-4B757788E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D8EA-05DB-4FAC-9F74-B1E19B1F5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okkka.hu/drupal/en/node/8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4105-275A-4CF9-9813-2E5EC14D2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nwfsc.noaa.gov/publications/techmemos/tm17/figures/moranfig4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8D1A-BD25-4CE8-A27A-85205BC05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www.sciencedirect.com/science/article/pii/S00426989120030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626E-7480-458A-A926-05DAFB2FA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A151-FDCF-4C6C-B7FC-71262AEDF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ciencedirect.com/science/article/pii/S01681656030022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6DEE-ADE8-4CB2-926B-FBBAC90C7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9648-61B9-42AA-B890-67FD1A66D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s.discovermagazine.com/80beats/2009/04/20/dna-sampling-of-innocent-until-proven-guilty-people-is-on-the-rise/#.UL3UexzMJ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CFEA-2F4A-421E-A86A-BD1866619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9436-74B2-42B5-AD18-54FE85DFE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&amp; data (8 days &amp; $10 000) from: http://www.economist.com/node/183042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FACB-0F57-4D01-99FA-B4C47A2A1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uoguelph.ca/biophysics/central/facilities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 from the Office of Science Education, the National Institutes of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chemat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ﾊ</a:t>
            </a:r>
            <a:r>
              <a:rPr b="1" lang="en-US" sz="1200" spc="-1" strike="noStrike">
                <a:solidFill>
                  <a:srgbClr val="46941b"/>
                </a:solidFill>
                <a:latin typeface="Arial"/>
              </a:rPr>
              <a:t>GREEN</a:t>
            </a:r>
            <a:r>
              <a:rPr b="0" lang="en-US" sz="1200" spc="-1" strike="noStrike">
                <a:solidFill>
                  <a:srgbClr val="46941b"/>
                </a:solidFill>
                <a:latin typeface="Arial"/>
              </a:rPr>
              <a:t> represents </a:t>
            </a:r>
            <a:r>
              <a:rPr b="1" lang="en-US" sz="1200" spc="-1" strike="noStrike">
                <a:solidFill>
                  <a:srgbClr val="46941b"/>
                </a:solidFill>
                <a:latin typeface="Arial"/>
              </a:rPr>
              <a:t>Control DNA</a:t>
            </a:r>
            <a:r>
              <a:rPr b="0" lang="en-US" sz="1200" spc="-1" strike="noStrike">
                <a:solidFill>
                  <a:srgbClr val="46941b"/>
                </a:solidFill>
                <a:latin typeface="Arial"/>
              </a:rPr>
              <a:t>, where either DNA or cDNA derived from normal tissue is hybridized to the target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941b"/>
                </a:solidFill>
                <a:latin typeface="Arial"/>
              </a:rPr>
              <a:t>ﾊ</a:t>
            </a:r>
            <a:r>
              <a:rPr b="1" lang="en-US" sz="1200" spc="-1" strike="noStrike">
                <a:solidFill>
                  <a:srgbClr val="da251a"/>
                </a:solidFill>
                <a:latin typeface="Arial"/>
              </a:rPr>
              <a:t>RED</a:t>
            </a:r>
            <a:r>
              <a:rPr b="0" lang="en-US" sz="1200" spc="-1" strike="noStrike">
                <a:solidFill>
                  <a:srgbClr val="da251a"/>
                </a:solidFill>
                <a:latin typeface="Arial"/>
              </a:rPr>
              <a:t> represents </a:t>
            </a:r>
            <a:r>
              <a:rPr b="1" lang="en-US" sz="1200" spc="-1" strike="noStrike">
                <a:solidFill>
                  <a:srgbClr val="da251a"/>
                </a:solidFill>
                <a:latin typeface="Arial"/>
              </a:rPr>
              <a:t>Sample DNA</a:t>
            </a:r>
            <a:r>
              <a:rPr b="0" lang="en-US" sz="1200" spc="-1" strike="noStrike">
                <a:solidFill>
                  <a:srgbClr val="da251a"/>
                </a:solidFill>
                <a:latin typeface="Arial"/>
              </a:rPr>
              <a:t>, where either DNA or cDNA is derived from diseased tissue hybridized to the target DNA.</a:t>
            </a:r>
            <a:r>
              <a:rPr b="0" lang="en-US" sz="1200" spc="-1" strike="noStrike">
                <a:solidFill>
                  <a:srgbClr val="da251a"/>
                </a:solidFill>
                <a:latin typeface="Arial"/>
              </a:rPr>
              <a:t>ﾊ</a:t>
            </a:r>
            <a:r>
              <a:rPr b="1" lang="en-US" sz="1200" spc="-1" strike="noStrike">
                <a:solidFill>
                  <a:srgbClr val="f4cc70"/>
                </a:solidFill>
                <a:latin typeface="Arial"/>
              </a:rPr>
              <a:t>YELLOW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 represents </a:t>
            </a:r>
            <a:r>
              <a:rPr b="1" lang="en-US" sz="1200" spc="-1" strike="noStrike">
                <a:solidFill>
                  <a:srgbClr val="f4cc70"/>
                </a:solidFill>
                <a:latin typeface="Arial"/>
              </a:rPr>
              <a:t>a combination of Control and Sample DNA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, where both hybridized equally to the target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ﾊ</a:t>
            </a:r>
            <a:r>
              <a:rPr b="1" lang="en-US" sz="1200" spc="-1" strike="noStrike">
                <a:solidFill>
                  <a:srgbClr val="f4cc70"/>
                </a:solidFill>
                <a:latin typeface="Arial"/>
              </a:rPr>
              <a:t>BLACK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 represents areas where </a:t>
            </a:r>
            <a:r>
              <a:rPr b="1" lang="en-US" sz="1200" spc="-1" strike="noStrike">
                <a:solidFill>
                  <a:srgbClr val="f4cc70"/>
                </a:solidFill>
                <a:latin typeface="Arial"/>
              </a:rPr>
              <a:t>neither the Control nor Sample DNA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 hybridized to the target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ﾊ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Each spot on an array is associated with a particular gene. Each color in an array represents either healthy (control) or diseased (sample) tissue. Depending on the type of array used, the location and intensity of a color will tell us whether the gene, or mutation, is present in either the control and/or sample DNA. It will also provide an estimate of the expression level of the gene(s) in the sample and control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D89E-26ED-4CEE-9BD6-9FBFFE0A3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8955-A7A3-41D2-A1F4-A1F9BFE32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nadestiny.yolasite.com/resources/chip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08E2-9201-4B07-91EB-64A49DE33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A754-8888-4194-AC83-72180AE91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DNA_micro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A878-CD56-4524-BD29-0695273FC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9831-00C5-4058-AD83-1A18DCB19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4003-4EC6-4B00-A968-E138FAE96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74AC-E8D9-4CC6-A6E7-243DDC9CE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533C-87F8-4A7A-B624-B0BD03B13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eb.ca/emailer/taq/taq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example of importance of biod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765F-10A7-4A08-9088-E272E6C93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lmnh.ufl.edu/cowries/amplif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9823-F0B5-4076-9CEE-53A7B5239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7D47-9675-426F-B551-8E5263BBA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andypozo3a.edublogs.org/2011/12/05/gel-electrophoresis-virtual-lab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873A-9E36-4655-BE30-C7D45979D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6AF-D2F3-4B79-94CF-31B08CCC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7A1-F0E7-4DE6-A97B-0E4036A2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24E-2637-493E-A2CD-6C1BD86D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A35-B7D8-4224-8C75-4900E5A5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F74-D4B1-434D-BAC2-C4412DBD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3AD-437E-4CA3-9FBE-2BC67CE4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A1B-16C4-4675-931A-DB4734F8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2E0-56DF-43F4-8ACE-9C71F3D4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B71-0BF1-4658-8BE0-0F254EAE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243-156F-483D-9EB0-7A087A67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B84-D8B3-44D7-A584-BCF21ABE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795-B209-4269-8F3C-EBC5E973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2286-E5AB-497B-9C9A-50B267783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nalc.org/resources/animations/pcr.html" TargetMode="External"/><Relationship Id="rId2" Type="http://schemas.openxmlformats.org/officeDocument/2006/relationships/hyperlink" Target="http://learn.genetics.utah.edu/content/labs/pcr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20_08GelElectrophoresis"/>
          <p:cNvPicPr/>
          <p:nvPr/>
        </p:nvPicPr>
        <p:blipFill>
          <a:blip r:embed="rId1"/>
          <a:stretch/>
        </p:blipFill>
        <p:spPr>
          <a:xfrm>
            <a:off x="2306520" y="1981080"/>
            <a:ext cx="4530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cellent interactive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learn.genetics.utah.edu/content/labs/ge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-by-step slideshow on gel electrophore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nalc.org/resources/animations/gelelectrophoresi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29" descr="800px-AMY1gene"/>
          <p:cNvPicPr/>
          <p:nvPr/>
        </p:nvPicPr>
        <p:blipFill>
          <a:blip r:embed="rId1"/>
          <a:stretch/>
        </p:blipFill>
        <p:spPr>
          <a:xfrm>
            <a:off x="685800" y="2562120"/>
            <a:ext cx="77724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 termination method (Sanger dideoxy method) developed in the 1970s by Frederick S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Genome Project used 2 methods of sequencing, both involving the Sang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oxy- vs. Dide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fig5_38"/>
          <p:cNvPicPr/>
          <p:nvPr/>
        </p:nvPicPr>
        <p:blipFill>
          <a:blip r:embed="rId1"/>
          <a:stretch/>
        </p:blipFill>
        <p:spPr>
          <a:xfrm>
            <a:off x="1701720" y="1981080"/>
            <a:ext cx="5738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moranfig4"/>
          <p:cNvPicPr/>
          <p:nvPr/>
        </p:nvPicPr>
        <p:blipFill>
          <a:blip r:embed="rId1"/>
          <a:stretch/>
        </p:blipFill>
        <p:spPr>
          <a:xfrm>
            <a:off x="2309760" y="609480"/>
            <a:ext cx="4524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1-s2"/>
          <p:cNvPicPr/>
          <p:nvPr/>
        </p:nvPicPr>
        <p:blipFill>
          <a:blip r:embed="rId1"/>
          <a:stretch/>
        </p:blipFill>
        <p:spPr>
          <a:xfrm>
            <a:off x="1641600" y="609480"/>
            <a:ext cx="5860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ge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animation &amp; qu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sites/0072556781/student_view0/chapter15/animation_quiz_1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le-Genome Shotg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1-s2"/>
          <p:cNvPicPr/>
          <p:nvPr/>
        </p:nvPicPr>
        <p:blipFill>
          <a:blip r:embed="rId1"/>
          <a:stretch/>
        </p:blipFill>
        <p:spPr>
          <a:xfrm>
            <a:off x="457200" y="2306520"/>
            <a:ext cx="82296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you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 sequenced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you do with the da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al ge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29" descr="dna-test"/>
          <p:cNvPicPr/>
          <p:nvPr/>
        </p:nvPicPr>
        <p:blipFill>
          <a:blip r:embed="rId1"/>
          <a:stretch/>
        </p:blipFill>
        <p:spPr>
          <a:xfrm>
            <a:off x="1492200" y="1981080"/>
            <a:ext cx="61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inding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equence a gene and then use computer to find similar sequences in the same gen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other gen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discovered many genes of unknow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xpected degree of similarity between different organisms (e.g., yeast &amp; hum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$1000 Genome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ve to be able to sequence the genome faster and for less than $1000 (seems to have been cancelled, company Illumina may have “won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opore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20110312_tqp001"/>
          <p:cNvPicPr/>
          <p:nvPr/>
        </p:nvPicPr>
        <p:blipFill>
          <a:blip r:embed="rId1"/>
          <a:stretch/>
        </p:blipFill>
        <p:spPr>
          <a:xfrm>
            <a:off x="5334120" y="2209680"/>
            <a:ext cx="2904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Micro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microarray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Micro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scientists to pinpoint the functions of specific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ression of thousands of genes in a particular cell can be identified simultane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chip"/>
          <p:cNvPicPr/>
          <p:nvPr/>
        </p:nvPicPr>
        <p:blipFill>
          <a:blip r:embed="rId1"/>
          <a:stretch/>
        </p:blipFill>
        <p:spPr>
          <a:xfrm>
            <a:off x="2475000" y="609480"/>
            <a:ext cx="419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array or gene chip can hold from 10 to 2.1 million DNA samples (prob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used to compare a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 with a cancerous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 mRNA from both cells; synthesize labelled cDNA; denature and place on micro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220px-Microarray-schema"/>
          <p:cNvPicPr/>
          <p:nvPr/>
        </p:nvPicPr>
        <p:blipFill>
          <a:blip r:embed="rId1"/>
          <a:stretch/>
        </p:blipFill>
        <p:spPr>
          <a:xfrm>
            <a:off x="2690640" y="609480"/>
            <a:ext cx="3760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Micro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ad the 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gene is expressed in experimental (cancerous)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 gene is expressed in nor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gene is expressed in both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step-by-step animation with simplified explanation of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http://www.bio.davidson.edu/courses/genomics/chip/chipQ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9903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sequence or analyze DNA, more than just a small sample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mplify-Simple-Mega-with-Handle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merase Chain Reaction (PC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rect method of making many copies of a DNA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ycle doubles the number of DNA molecules (exponential incre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forensics, medical diagnosis and genetic research because a small amount of DNA can be amp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a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olyme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mus aquatic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acterium that lives in hot spr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natured at the high temperatures needed in P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optimally at 72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aq_polymerase"/>
          <p:cNvPicPr/>
          <p:nvPr/>
        </p:nvPicPr>
        <p:blipFill>
          <a:blip r:embed="rId1"/>
          <a:stretch/>
        </p:blipFill>
        <p:spPr>
          <a:xfrm>
            <a:off x="5989680" y="1981080"/>
            <a:ext cx="2041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PCR"/>
          <p:cNvPicPr/>
          <p:nvPr/>
        </p:nvPicPr>
        <p:blipFill>
          <a:blip r:embed="rId1"/>
          <a:stretch/>
        </p:blipFill>
        <p:spPr>
          <a:xfrm>
            <a:off x="2630520" y="609480"/>
            <a:ext cx="38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R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step-by-step animation of PCR process fir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resources/animations/pcr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is excellent interactiv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la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ne of my favourite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earn.genetics.utah.edu/content/labs/pc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27" descr="biol_02_img0140-286rp3x"/>
          <p:cNvPicPr/>
          <p:nvPr/>
        </p:nvPicPr>
        <p:blipFill>
          <a:blip r:embed="rId1"/>
          <a:stretch/>
        </p:blipFill>
        <p:spPr>
          <a:xfrm>
            <a:off x="2849400" y="1981080"/>
            <a:ext cx="34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hod of separating molecules based o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igrates through the gel towards a positive electr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fragments move faster through the gel, causing separation b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fragments can be seen by using a stain such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d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2:26:53Z</dcterms:created>
  <dc:creator>rubina khan</dc:creator>
  <dc:description/>
  <dc:language>en-US</dc:language>
  <cp:lastModifiedBy>rubina khan</cp:lastModifiedBy>
  <dcterms:modified xsi:type="dcterms:W3CDTF">2017-04-11T11:21:23Z</dcterms:modified>
  <cp:revision>243</cp:revision>
  <dc:subject/>
  <dc:title>Biotechnological Tools and Techniques</dc:title>
</cp:coreProperties>
</file>